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1358-44CC-4C9F-BA58-BC354AE71EC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F5D4-05AE-428B-AB48-76DC4253FA9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DD931-08F9-4E41-9E16-421C12A99F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2B27E-3F4F-4A38-9A8A-9D66FF15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9204D-3716-4479-AFAE-DB40559F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8CCBD-7D7D-4340-870B-EB800F2270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A6F83-7709-4976-AA6F-CF79C1A3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A9A4E-65A9-4AFB-A4DF-934297F4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B18DD-EB04-4885-9C51-A0668A6C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C4935-6FC4-440E-A5A5-F3628F94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939B2-4B9A-4509-A2F1-D06F8AC0D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A0125-620A-4FCB-BB9E-E0BC475E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8FCCB-42FC-42DF-8A3C-C931874F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D2948-C8B8-4A10-85A8-8D462078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0D31-A4C5-411F-B74B-67DE890464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多发骨折伴休克，经扩容治疗后，神志未清醒，测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中心静脉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进一步的护理重点是什么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如何监测患者病情变化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/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先晶体后胶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复述休克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休克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休克辅助检查项目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休克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和防治感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照无菌技术原则执行各项护理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应用抗菌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、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口腔护理和留置尿管的护理，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意外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床单清洁、平整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患者将输液管道或引流管等拔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续原发疾病治疗或康复，加强对原发病观察，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引起休克疾病的预防，避免各种意外伤害的发生，学会受伤后的紧急救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休克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心排血量、动脉血气分析、动脉血乳酸盐含量等监测休克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机体受到强烈的致病因素侵袭后，导致有效循环血量锐减、组织血液灌流不足所引起的以微循环障碍、代谢障碍和细胞受损为特征的病理性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被汽车撞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急诊入院。患者浅昏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50/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立即查血常规、血型，紧急配血，给予双通道静脉输入平衡盐、代血浆，静滴止血药物等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侧肩胛骨、肱骨头粉碎性骨折，左侧髂骨翼、髋臼及股骨粗隆间粉碎性骨折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：腹腔内无实质脏器破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：未发现颅内血肿及脑挫裂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显著苍白，肢端发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28:06Z</dcterms:modified>
  <cp:revision>96</cp:revision>
  <dc:subject/>
  <dc:title>内科护理学</dc:title>
</cp:coreProperties>
</file>